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D1B9-DE65-4F20-961D-311D97BDF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n especially Christian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onflicts with the principle of “sovereignty”, invented in the 16</a:t>
            </a:r>
            <a:r>
              <a:rPr b="0" lang="en-US" sz="1200" spc="-1" strike="noStrike" baseline="30000">
                <a:solidFill>
                  <a:srgbClr val="000000"/>
                </a:solidFill>
                <a:latin typeface="Arial"/>
              </a:rPr>
              <a:t>th</a:t>
            </a:r>
            <a:r>
              <a:rPr b="0" lang="en-US" sz="1200" spc="-1" strike="noStrike">
                <a:solidFill>
                  <a:srgbClr val="000000"/>
                </a:solidFill>
                <a:latin typeface="Arial"/>
              </a:rPr>
              <a:t> and 17</a:t>
            </a:r>
            <a:r>
              <a:rPr b="0" lang="en-US" sz="1200" spc="-1" strike="noStrike" baseline="30000">
                <a:solidFill>
                  <a:srgbClr val="000000"/>
                </a:solidFill>
                <a:latin typeface="Arial"/>
              </a:rPr>
              <a:t>th</a:t>
            </a:r>
            <a:r>
              <a:rPr b="0" lang="en-US" sz="1200" spc="-1" strike="noStrike">
                <a:solidFill>
                  <a:srgbClr val="000000"/>
                </a:solidFill>
                <a:latin typeface="Arial"/>
              </a:rPr>
              <a:t> centuries; this is something we will see later on, when we come to talk about Hobbes. A theory of just war based on natural law or natural rights cannot but disregard “sovereign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 Vitoria suggesting that the conquest is justified or no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know about Machiavelli? What do you associate the word “Machiavellian”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will be forever associated with the idea that the ends justify the means, and that in the pursuit of power everything is allowed, ideas that certainly seem far removed from the ideas of just war theory or of the pacifism of Erasmus, and have little in common with the ideas of Aristotle. He is also associated with a cold and calculating view of human nature. Now, from a certain point of view, this is not entirely wrong; but if that were all that Machiavelli had said, he would not be very interesting or worth reading, since such is the credo of the professional politician everywhere; and anyway others had written in this vein before, though perhaps not as well as Machiavelli. What makes Machiavelli worth reading is the fact that he argues from profoundly different assumptions about politics; he begins the process of changing the values of an entir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achiavelli wrote two books that seem very different from one another: the first is The Prince, which seems to be full of advice to aspiring dictators, to use the modern term; the second is the Discourses, which seems to praise free Republics and to argue for the establishment of free Republics. So there’s a puzzle: is Machiavelli the amoral adviser to dictators, who cares very little about political freedom, or is he someone who defends political freedom, unlike most of the earlier thinkers we have rea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some of the key concepts of ancient and medieval though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ways, Machiavelli goes back to a much earlier, really pre-moral definition of virtu as excellen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avelli, in returning to the ancients, returns not to the ancient philosophers but to the historians, who describe politicians who held similar goals; remember Pericles in the funeral oration, and the theme of glory for the individual and the care of the country. Cicero is perhaps closest to Machiavelli, but also different in his assumptions about virtu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achiavelli recommends dishonesty – could it be that he is not completely honest about is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even Agathocles has something to teach us, in particular about the correct use of crue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the emphasis on “new” states, since these are the more problematic ones; Machiavelli is ultimately thinking of the potential unification of Ital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Machiavelli’s distinction between the people and the few, and his apparent view that it is the good of the people that should be kept in view</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a proble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s of things make you contempti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tl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f W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right to trade an dwell can be restricted only for the common good of the people, i.e., if trade and intercourse with others actually harms the population then I t could be restricted fairly. So, perhaps if Vitoria had known that intercourse with the Spaniards brought disease to the natives, he might have said that the natives had the right to curtail intera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analogy with the domestic arena today. Picture of Jehovas’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protection of the right to evangelize give a just cause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his been done, according to Vito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f Hernan Cor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f Saddam Hussein and picture of an Aztec pyra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ocent have to be protected, first of all against harm and then against tyra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atter that the people themselves accept the practice, or that they will not welcome their liberators? 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4B5F8-CEE4-4997-B438-E1288AAF5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302DE-B0C5-42A0-80CB-CF3E9AECB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E12FC-99CA-4D25-9B9E-CD472DF1C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D11F7-4444-4F0D-9989-DC4A8D46E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A434-4027-4535-A35D-4071BA73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E0789-8E1E-45E5-96EE-1E15469A8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86AB3-DA0A-4DF1-8AC1-E9EA61187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6D29F-B7A9-46F9-884F-DA54ED2CB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3C299-995D-4228-A0D0-1699DF2ED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6BF24-43D1-4B84-8F75-70A41DE4D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5890A-BF45-45A0-B179-1AB1387F0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C1F6A-1B75-489A-8CC2-6AAD74750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64EC-D5F8-456D-9D46-3E9D4F28A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nstitution.org/mac/prince15.htm" TargetMode="External"/><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onstitution.org/mac/prince08.htm"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constitution.org/mac/prince15.htm"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constitution.org/mac/prince17.ht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August 2008</a:t>
            </a:r>
            <a:endParaRPr b="0" lang="en-US" sz="3200" spc="-1" strike="noStrike">
              <a:solidFill>
                <a:srgbClr val="000000"/>
              </a:solidFill>
              <a:latin typeface="Arial"/>
            </a:endParaRPr>
          </a:p>
        </p:txBody>
      </p:sp>
      <p:pic>
        <p:nvPicPr>
          <p:cNvPr id="50" name="" descr=""/>
          <p:cNvPicPr/>
          <p:nvPr/>
        </p:nvPicPr>
        <p:blipFill>
          <a:blip r:embed="rId1"/>
          <a:stretch/>
        </p:blipFill>
        <p:spPr>
          <a:xfrm>
            <a:off x="685800" y="685800"/>
            <a:ext cx="215892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 benefit principl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eings should be able to benefit each other unhindered, unless this causes harms to other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rudenc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 of these titles must be tempered by a concern for proportion, prudence, and the true benefit of the n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ven if none of these titles hold, the Spaniards might still trade with the natives peacefully and with pro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a:t>
            </a:r>
            <a:endParaRPr b="0" lang="en-US" sz="4400" spc="-1" strike="noStrike">
              <a:solidFill>
                <a:srgbClr val="000000"/>
              </a:solidFill>
              <a:latin typeface="Arial"/>
            </a:endParaRPr>
          </a:p>
        </p:txBody>
      </p:sp>
      <p:pic>
        <p:nvPicPr>
          <p:cNvPr id="73" name="" descr=""/>
          <p:cNvPicPr/>
          <p:nvPr/>
        </p:nvPicPr>
        <p:blipFill>
          <a:blip r:embed="rId1"/>
          <a:stretch/>
        </p:blipFill>
        <p:spPr>
          <a:xfrm>
            <a:off x="2790720" y="1600200"/>
            <a:ext cx="35607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key concepts of ancient and Christian thought</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soci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od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od reg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atural sociality</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key premise of Ancient and medieval political thought</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mphasized in Machiavelli, actively denied in Hobb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e and politic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and medieval think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men lead to good reg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es of the ruler the same as the moral virtues</a:t>
            </a:r>
            <a:endParaRPr b="0" lang="en-US" sz="24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iavell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men lead (some times) to bad reg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rulers must learn how not to be good m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a:t>
            </a:r>
            <a:r>
              <a:rPr b="0" i="1" lang="en-US" sz="2400" spc="-1" strike="noStrike">
                <a:solidFill>
                  <a:srgbClr val="000000"/>
                </a:solidFill>
                <a:latin typeface="Arial"/>
              </a:rPr>
              <a:t>virtu</a:t>
            </a:r>
            <a:r>
              <a:rPr b="0" lang="en-US" sz="2400" spc="-1" strike="noStrike">
                <a:solidFill>
                  <a:srgbClr val="000000"/>
                </a:solidFill>
                <a:latin typeface="Arial"/>
              </a:rPr>
              <a:t>: the qualities that enable a man to master </a:t>
            </a:r>
            <a:r>
              <a:rPr b="0" i="1" lang="en-US" sz="2400" spc="-1" strike="noStrike">
                <a:solidFill>
                  <a:srgbClr val="000000"/>
                </a:solidFill>
                <a:latin typeface="Arial"/>
              </a:rPr>
              <a:t>fortu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ood lif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and medieval think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life involves life in accordance with reas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 thinkers) The key goals of human beings are beyond this life</a:t>
            </a:r>
            <a:endParaRPr b="0" lang="en-US" sz="2400" spc="-1" strike="noStrike">
              <a:solidFill>
                <a:srgbClr val="000000"/>
              </a:solidFill>
              <a:latin typeface="Arial"/>
            </a:endParaRPr>
          </a:p>
        </p:txBody>
      </p:sp>
      <p:sp>
        <p:nvSpPr>
          <p:cNvPr id="8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iavell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love my country more than I love my immortal soul” (letter to Francesco Vet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st regim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ient and medieval think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regime is a guiding ide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int of politics is to produce concord or harmony</a:t>
            </a:r>
            <a:endParaRPr b="0" lang="en-US" sz="20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avell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ny have pictured republics and principalities which in fact have never been known or seen, because how one lives is so far distant from how one ought to live” (</a:t>
            </a:r>
            <a:r>
              <a:rPr b="0" lang="en-US" sz="2000" spc="-1" strike="noStrike" u="sng">
                <a:solidFill>
                  <a:srgbClr val="009999"/>
                </a:solidFill>
                <a:uFillTx/>
                <a:latin typeface="Arial"/>
                <a:hlinkClick r:id="rId1"/>
              </a:rPr>
              <a:t>chapter 15</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int of politics is to manage disharmony for great e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blem of </a:t>
            </a:r>
            <a:r>
              <a:rPr b="0" i="1" lang="en-US" sz="4400" spc="-1" strike="noStrike">
                <a:solidFill>
                  <a:srgbClr val="000000"/>
                </a:solidFill>
                <a:latin typeface="Arial"/>
              </a:rPr>
              <a:t>The Princ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Machiavelli a “teacher of ev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ry and pow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 for the prince is the acquisition of glory, not just po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gathocles in </a:t>
            </a:r>
            <a:r>
              <a:rPr b="0" lang="en-US" sz="2800" spc="-1" strike="noStrike" u="sng">
                <a:solidFill>
                  <a:srgbClr val="009999"/>
                </a:solidFill>
                <a:uFillTx/>
                <a:latin typeface="Arial"/>
                <a:hlinkClick r:id="rId1"/>
              </a:rPr>
              <a:t>chapter 8</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first, continuation of Vitoria</a:t>
            </a:r>
            <a:endParaRPr b="0" lang="en-US" sz="4400" spc="-1" strike="noStrike">
              <a:solidFill>
                <a:srgbClr val="000000"/>
              </a:solidFill>
              <a:latin typeface="Arial"/>
            </a:endParaRPr>
          </a:p>
        </p:txBody>
      </p:sp>
      <p:pic>
        <p:nvPicPr>
          <p:cNvPr id="52" name="" descr=""/>
          <p:cNvPicPr/>
          <p:nvPr/>
        </p:nvPicPr>
        <p:blipFill>
          <a:blip r:embed="rId1"/>
          <a:stretch/>
        </p:blipFill>
        <p:spPr>
          <a:xfrm>
            <a:off x="2971800" y="1676520"/>
            <a:ext cx="32446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rough) structure of </a:t>
            </a:r>
            <a:r>
              <a:rPr b="0" i="1" lang="en-US" sz="4000" spc="-1" strike="noStrike">
                <a:solidFill>
                  <a:srgbClr val="000000"/>
                </a:solidFill>
                <a:latin typeface="Arial"/>
              </a:rPr>
              <a:t>The Princ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mstances of the aspiring dicta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of states according to the difficulties they present in seizing and holding pow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es of the aspiring dicta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imilar or different they are from the virtues as commonly underst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a:t>
            </a:r>
            <a:r>
              <a:rPr b="0" i="1" lang="en-NZ" sz="4400" spc="-1" strike="noStrike">
                <a:solidFill>
                  <a:srgbClr val="000000"/>
                </a:solidFill>
                <a:latin typeface="Arial"/>
              </a:rPr>
              <a:t>virtu</a:t>
            </a:r>
            <a:r>
              <a:rPr b="0" lang="en-NZ" sz="4400" spc="-1" strike="noStrike">
                <a:solidFill>
                  <a:srgbClr val="000000"/>
                </a:solidFill>
                <a:latin typeface="Arial"/>
              </a:rPr>
              <a:t> of the princ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the qualities that enable a person to master fortune the same as the moral qua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the qualities of a prince who will be good for a country the same as the moral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earning how “</a:t>
            </a:r>
            <a:r>
              <a:rPr b="0" lang="en-NZ" sz="4000" spc="-1" strike="noStrike" u="sng">
                <a:solidFill>
                  <a:srgbClr val="009999"/>
                </a:solidFill>
                <a:uFillTx/>
                <a:latin typeface="Arial"/>
                <a:hlinkClick r:id="rId1"/>
              </a:rPr>
              <a:t>not to be good</a:t>
            </a:r>
            <a:r>
              <a:rPr b="0" lang="en-NZ" sz="4000" spc="-1" strike="noStrike">
                <a:solidFill>
                  <a:srgbClr val="000000"/>
                </a:solidFill>
                <a:latin typeface="Arial"/>
              </a:rPr>
              <a:t>”</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ways of understanding Machiavelli’s poi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chiavelli as a “teacher of ev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Dirty hands” or “lesser of two evils” analysi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enerosity and stingines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ically, generosity or liberality is extremely expensive because it must be “s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osity or liberality will thus involve large taxes on the people, which makes the prince h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hatred of the people is extremely dangerous to the pri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reputation for stinginess will eventually be seen as true libe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uelty vs. merc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No prince should mind being called cruel for what he does to keep his subjects united and loyal” (</a:t>
            </a:r>
            <a:r>
              <a:rPr b="0" lang="en-GB" sz="3200" spc="-1" strike="noStrike" u="sng">
                <a:solidFill>
                  <a:srgbClr val="009999"/>
                </a:solidFill>
                <a:uFillTx/>
                <a:latin typeface="Arial"/>
                <a:hlinkClick r:id="rId1"/>
              </a:rPr>
              <a:t>chapter 17</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rcy turns into crue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cruelty can be well and badly used: cruelty well used is mer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avelli’s paradox</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better politics, you need (certain kinds of) bad people as politic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tred and contemp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thing that a prince must protect himself against is hatred and contem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being hated different from being fea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hat make you hated</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GB" sz="3200" spc="-1" strike="noStrike">
                <a:solidFill>
                  <a:srgbClr val="000000"/>
                </a:solidFill>
                <a:latin typeface="Arial"/>
              </a:rPr>
              <a:t>It makes him hated above all things, as I have said, to be rapacious, and to be a violator of the property and women of his subjects, from both of which he must abstain. And when neither their property nor honour is touched, the majority of men live content, and he has only to contend with the ambition of a few, whom he can curb with ease in many ways” (chapter 1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gs that make you contemptible</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makes him contemptible to be considered fickle, frivolous, effeminate, mean-spirited, irresolute, from all of which a prince should guard himself as from a rock; and he should endeavour to show in his actions greatness, courage, gravity, and fortitude; and in his private dealings with his subjects let him show that his judgments are irrevocable, and maintain himself in such reputation that no one can hope either to deceive him or to get round him. (chapter 1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ly just tit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on of the universal </a:t>
            </a:r>
            <a:r>
              <a:rPr b="0" lang="en-US" sz="3200" spc="-1" strike="noStrike" u="sng">
                <a:solidFill>
                  <a:srgbClr val="009999"/>
                </a:solidFill>
                <a:uFillTx/>
                <a:latin typeface="Arial"/>
                <a:hlinkClick r:id="rId1" action="ppaction://hlinksldjump"/>
              </a:rPr>
              <a:t>right to trade with ot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on of the </a:t>
            </a:r>
            <a:r>
              <a:rPr b="0" lang="en-US" sz="3200" spc="-1" strike="noStrike" u="sng">
                <a:solidFill>
                  <a:srgbClr val="009999"/>
                </a:solidFill>
                <a:uFillTx/>
                <a:latin typeface="Arial"/>
                <a:hlinkClick r:id="rId2" action="ppaction://hlinksldjump"/>
              </a:rPr>
              <a:t>right to evangel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on of the conver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on of the innocent </a:t>
            </a:r>
            <a:r>
              <a:rPr b="0" lang="en-US" sz="3200" spc="-1" strike="noStrike" u="sng">
                <a:solidFill>
                  <a:srgbClr val="009999"/>
                </a:solidFill>
                <a:uFillTx/>
                <a:latin typeface="Arial"/>
                <a:hlinkClick r:id="rId3" action="ppaction://hlinksldjump"/>
              </a:rPr>
              <a:t>against tyrann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inely voluntary cho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ance with some natives against ot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madness of the n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universal right to trade?</a:t>
            </a:r>
            <a:endParaRPr b="0" lang="en-US" sz="4400" spc="-1" strike="noStrike">
              <a:solidFill>
                <a:srgbClr val="000000"/>
              </a:solidFill>
              <a:latin typeface="Arial"/>
            </a:endParaRPr>
          </a:p>
        </p:txBody>
      </p:sp>
      <p:pic>
        <p:nvPicPr>
          <p:cNvPr id="56" name="" descr=""/>
          <p:cNvPicPr/>
          <p:nvPr/>
        </p:nvPicPr>
        <p:blipFill>
          <a:blip r:embed="rId1"/>
          <a:stretch/>
        </p:blipFill>
        <p:spPr>
          <a:xfrm>
            <a:off x="2195640" y="1700280"/>
            <a:ext cx="476244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ight to evangeliz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 </a:t>
            </a:r>
            <a:r>
              <a:rPr b="0" lang="en-GB" sz="2800" spc="-1" strike="noStrike">
                <a:solidFill>
                  <a:srgbClr val="000000"/>
                </a:solidFill>
                <a:latin typeface="Arial"/>
              </a:rPr>
              <a:t>If the Christian faith be put before the aborigines</a:t>
            </a:r>
            <a:br>
              <a:rPr sz="2800"/>
            </a:br>
            <a:r>
              <a:rPr b="0" lang="en-GB" sz="2800" spc="-1" strike="noStrike">
                <a:solidFill>
                  <a:srgbClr val="000000"/>
                </a:solidFill>
                <a:latin typeface="Arial"/>
              </a:rPr>
              <a:t>with demonstration, that is, with demonstrable and reasonable arguments, and his be accompanied by an upright life, well-ordered according to the law of nature (an argument which weighs much in confirmation of the truth), and his be done not once only and perfunctorily, but diligently and zealously, the aborigines are bound to receive the faith of Christ under penalty of mortal s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hear of no miracles or signs or religious patterns of life; nay, on the other hand, I hear of many scandals and cruel crimes and acts of impiety. Hence it does not appear that the Christian religion has been preached to them with such sufficient propriety and piety that they are bound to acquiesce i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ufficient demonstration” not yet a cause for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angelization of the natives must be actively hind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ves may have just cause to defend themselves any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itarian intervention?</a:t>
            </a:r>
            <a:endParaRPr b="0" lang="en-US" sz="4400" spc="-1" strike="noStrike">
              <a:solidFill>
                <a:srgbClr val="000000"/>
              </a:solidFill>
              <a:latin typeface="Arial"/>
            </a:endParaRPr>
          </a:p>
        </p:txBody>
      </p:sp>
      <p:pic>
        <p:nvPicPr>
          <p:cNvPr id="66" name="" descr=""/>
          <p:cNvPicPr/>
          <p:nvPr/>
        </p:nvPicPr>
        <p:blipFill>
          <a:blip r:embed="rId1"/>
          <a:stretch/>
        </p:blipFill>
        <p:spPr>
          <a:xfrm>
            <a:off x="971640" y="1844640"/>
            <a:ext cx="2857320" cy="3009960"/>
          </a:xfrm>
          <a:prstGeom prst="rect">
            <a:avLst/>
          </a:prstGeom>
          <a:ln w="0">
            <a:noFill/>
          </a:ln>
        </p:spPr>
      </p:pic>
      <p:pic>
        <p:nvPicPr>
          <p:cNvPr id="67" name="" descr=""/>
          <p:cNvPicPr/>
          <p:nvPr/>
        </p:nvPicPr>
        <p:blipFill>
          <a:blip r:embed="rId2"/>
          <a:stretch/>
        </p:blipFill>
        <p:spPr>
          <a:xfrm>
            <a:off x="5364000" y="1844640"/>
            <a:ext cx="2725920" cy="32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7T17:33:01Z</dcterms:created>
  <dc:creator>Xavier Marquez</dc:creator>
  <dc:description/>
  <dc:language>en-US</dc:language>
  <cp:lastModifiedBy>Full Name</cp:lastModifiedBy>
  <dcterms:modified xsi:type="dcterms:W3CDTF">2008-08-07T20:51:35Z</dcterms:modified>
  <cp:revision>5</cp:revision>
  <dc:subject/>
  <dc:title>Early Modernity</dc:title>
</cp:coreProperties>
</file>